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B9E1-91D0-47FE-BFF4-11E11AC28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DC2D-0A66-4690-BFF7-FFF58BB9C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95ED-A5B3-482E-B509-40A9C81B2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3278-FB1D-4A02-8284-4AA23CEAC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3C34CD-964A-4507-8DAB-2ADF5CAD9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21077D-68F8-4C9A-9D62-7A037567F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706FC6-3380-4452-9EE0-4646FEE9E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538AC8-13A0-42B9-BB9F-132489D10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22040C-1E65-42BB-9A19-62DF75E11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300699-8FC3-46FB-8B19-EE7C99696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C6C88A-E35D-4DE7-9D4D-FBCA79EB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A4EC-6963-4268-8D40-F88C54B43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42BE4C-7014-4295-A47A-81F733AE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F3024C-01A5-4144-98EE-EFAD5B4E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C3B3DB-320A-4D7D-AA06-501ABF699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560A4C-6784-472F-A4B2-74659FD87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32BD9D-E8F3-4E1D-A8EE-DB5C6F253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219B-EADA-4EF7-8639-B4D2043A5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B1E4-F72F-4EF3-BB4B-F7F95C5FE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763D-9533-40F1-A76E-6E71D0842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268E-E0A2-4AD7-B919-C724A9E2C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631D-7CD1-4EF7-8B32-93DEDDFF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EFD3-2361-4AAB-A5EA-192B1FBD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B0CF-FB8D-4F8F-858F-4C3EA7F5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6B03C-DF24-43BB-9A51-196508961BC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4B8A2-C716-4390-A117-DCE20792336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3e3ff"/>
                </a:solidFill>
                <a:latin typeface="Arial"/>
              </a:rPr>
              <a:t>Площадь необъятного пространства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2484360" y="5157360"/>
            <a:ext cx="6400800" cy="8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полнил ученик 8 клас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Назовите формулу площади квадрат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8229600" cy="35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=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=a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=½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5" descr="smile"/>
          <p:cNvPicPr/>
          <p:nvPr/>
        </p:nvPicPr>
        <p:blipFill>
          <a:blip r:embed="rId1"/>
          <a:stretch/>
        </p:blipFill>
        <p:spPr>
          <a:xfrm>
            <a:off x="5508720" y="270828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91520" cy="122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Назовите формулу площади прямоугольни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=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=a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=½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5" descr="smile"/>
          <p:cNvPicPr/>
          <p:nvPr/>
        </p:nvPicPr>
        <p:blipFill>
          <a:blip r:embed="rId1"/>
          <a:stretch/>
        </p:blipFill>
        <p:spPr>
          <a:xfrm>
            <a:off x="5796000" y="3429000"/>
            <a:ext cx="5047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Назовите формулу площади параллелограмм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924280"/>
            <a:ext cx="8229600" cy="31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=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=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=½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5" descr="smile"/>
          <p:cNvPicPr/>
          <p:nvPr/>
        </p:nvPicPr>
        <p:blipFill>
          <a:blip r:embed="rId1"/>
          <a:stretch/>
        </p:blipFill>
        <p:spPr>
          <a:xfrm>
            <a:off x="5724360" y="3573360"/>
            <a:ext cx="43200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125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Назовите формулу площади треугольни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=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=a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=½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5" descr="smile"/>
          <p:cNvPicPr/>
          <p:nvPr/>
        </p:nvPicPr>
        <p:blipFill>
          <a:blip r:embed="rId1"/>
          <a:stretch/>
        </p:blipFill>
        <p:spPr>
          <a:xfrm>
            <a:off x="6012000" y="3933720"/>
            <a:ext cx="50472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64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Спасибо за внимание!!!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Arial"/>
              </a:rPr>
              <a:t>Содержание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лощадь многоугольника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лощадь квадрата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лощадь прямоугольника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лощадь параллелограмма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лощадь треугольник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Площадь многоугольни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нятие площади нам известно из повседневного опыта. Площадь многоугольника – это величина той плоскости, которую занимает многоугольник. За единицу измерения площадей принимают квадрат, сторона которого равна единице измерения отрезков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войства площаде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вные многоугольники имеют равные площад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1=F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то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(F1)=S(F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7"/>
          <p:cNvSpPr/>
          <p:nvPr/>
        </p:nvSpPr>
        <p:spPr>
          <a:xfrm>
            <a:off x="2916360" y="2565360"/>
            <a:ext cx="3743280" cy="1511280"/>
          </a:xfrm>
          <a:prstGeom prst="triangle">
            <a:avLst>
              <a:gd name="adj" fmla="val 500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416"/>
                </a:solidFill>
                <a:latin typeface="Times New Roman"/>
              </a:rPr>
              <a:t>F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8"/>
          <p:cNvSpPr/>
          <p:nvPr/>
        </p:nvSpPr>
        <p:spPr>
          <a:xfrm>
            <a:off x="3059280" y="4149720"/>
            <a:ext cx="3743280" cy="1511280"/>
          </a:xfrm>
          <a:prstGeom prst="triangle">
            <a:avLst>
              <a:gd name="adj" fmla="val 500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416"/>
                </a:solidFill>
                <a:latin typeface="Times New Roman"/>
              </a:rPr>
              <a:t>F</a:t>
            </a:r>
            <a:r>
              <a:rPr b="1" lang="ru-RU" sz="2400" spc="-1" strike="noStrike">
                <a:solidFill>
                  <a:srgbClr val="46341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войства площаде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многоугольник составлен из нескольких многоугольников, то его площадь равна сумме площадей этих многоугольник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(F)=S(F1)+S(F2)+S(F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лощадь квадрата равна квадрату его сторо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6"/>
          <p:cNvSpPr/>
          <p:nvPr/>
        </p:nvSpPr>
        <p:spPr>
          <a:xfrm>
            <a:off x="4932360" y="2708280"/>
            <a:ext cx="2808360" cy="1657440"/>
          </a:xfrm>
          <a:prstGeom prst="pentagon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6659640" y="3860640"/>
            <a:ext cx="5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416"/>
                </a:solidFill>
                <a:latin typeface="Times New Roman"/>
              </a:rPr>
              <a:t>F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5435640" y="3500280"/>
            <a:ext cx="5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416"/>
                </a:solidFill>
                <a:latin typeface="Times New Roman"/>
              </a:rPr>
              <a:t>F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6012000" y="2852640"/>
            <a:ext cx="63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416"/>
                </a:solidFill>
                <a:latin typeface="Times New Roman"/>
              </a:rPr>
              <a:t>F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10"/>
          <p:cNvSpPr/>
          <p:nvPr/>
        </p:nvSpPr>
        <p:spPr>
          <a:xfrm>
            <a:off x="4932360" y="3357720"/>
            <a:ext cx="2808360" cy="144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11"/>
          <p:cNvSpPr/>
          <p:nvPr/>
        </p:nvSpPr>
        <p:spPr>
          <a:xfrm flipH="1">
            <a:off x="5435640" y="3357720"/>
            <a:ext cx="2278080" cy="101916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Площадь квадрат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Площадь квадрата равна квадрату его стороны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Эту формулировку следует понимать так: если сторона квадрата при выбранной единице измерения отрезков выражается числом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, то площадь этого квадрата выражается числом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²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4356000" y="4581360"/>
            <a:ext cx="1368360" cy="1152720"/>
          </a:xfrm>
          <a:prstGeom prst="rect">
            <a:avLst/>
          </a:prstGeom>
          <a:solidFill>
            <a:srgbClr val="3399ff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3416"/>
                </a:solidFill>
                <a:latin typeface="Arial"/>
              </a:rPr>
              <a:t>S=a</a:t>
            </a:r>
            <a:r>
              <a:rPr b="1" lang="en-US" sz="1800" spc="-1" strike="noStrike">
                <a:solidFill>
                  <a:srgbClr val="463416"/>
                </a:solidFill>
                <a:latin typeface="Arial"/>
                <a:ea typeface="Arial"/>
              </a:rPr>
              <a:t>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Площадь прямоугольни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лощадь прямоугольника равна произведению его смежных сторо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=a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2700360" y="3213000"/>
            <a:ext cx="3456000" cy="17287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Площадь параллелограмм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орона параллелограмма называется основанием, а перпендикуляр, проведенный из любой точки противоположной стороны к прямой, содержащей основание, - высотой параллелограм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лощадь параллелограмма равна произведению его основания на высот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=h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3419640" y="3860640"/>
            <a:ext cx="3384360" cy="1079640"/>
          </a:xfrm>
          <a:prstGeom prst="parallelogram">
            <a:avLst>
              <a:gd name="adj" fmla="val 78368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6"/>
          <p:cNvSpPr/>
          <p:nvPr/>
        </p:nvSpPr>
        <p:spPr>
          <a:xfrm>
            <a:off x="4284720" y="3860640"/>
            <a:ext cx="0" cy="100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Площадь треугольни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дну из сторон треугольника назовем основанием. Если основание выбрано, то под словом «высота» подразумевают высоту треугольника, проведенную к основан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лощадь треугольника равна половине произведения его основания на высот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½a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3635280" y="3716280"/>
            <a:ext cx="2665440" cy="1441440"/>
          </a:xfrm>
          <a:prstGeom prst="triangle">
            <a:avLst>
              <a:gd name="adj" fmla="val 500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5"/>
          <p:cNvSpPr/>
          <p:nvPr/>
        </p:nvSpPr>
        <p:spPr>
          <a:xfrm>
            <a:off x="4932360" y="3716280"/>
            <a:ext cx="71280" cy="144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3T16:11:14Z</dcterms:created>
  <dc:creator>Liza</dc:creator>
  <dc:description/>
  <dc:language>en-US</dc:language>
  <cp:lastModifiedBy>26526</cp:lastModifiedBy>
  <dcterms:modified xsi:type="dcterms:W3CDTF">2010-05-31T12:16:44Z</dcterms:modified>
  <cp:revision>5</cp:revision>
  <dc:subject/>
  <dc:title>Площадь необъятного пространства</dc:title>
</cp:coreProperties>
</file>